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0665-9464-4FE3-989B-65CE8F4E16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0095-A1E4-4B34-AB89-F78D9897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9795-8F48-42C2-A9FB-1B880148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2F8A-D78D-4F66-97CB-AA36C11213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F1A4-EF9E-4550-AAB2-F6FC26FB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77D8-2EA1-4324-932D-6325F34D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2BFB-5D1D-4300-8EFB-F7A3A162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4B30-5F26-48D8-8D10-C73ABDB8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363B-5268-407D-8F09-99C23345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D151-D05D-453B-9AC2-A007EFDA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8BA8-7D57-4F60-9B8C-FDEBF7B1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F130-5E70-488F-9337-3854775F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stid-grenoble.xtek.fr/" TargetMode="External"/><Relationship Id="rId4" Type="http://schemas.openxmlformats.org/officeDocument/2006/relationships/hyperlink" Target="http://stid-grenoble.xtek.fr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F13A-ED02-4130-8F44-D7994E41A193}" type="datetime">
              <a:rPr b="0" lang="fr-FR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FE4E-90D2-4360-8618-DDFBDA53D29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6103800"/>
            <a:ext cx="1019160" cy="627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489840" y="6049800"/>
            <a:ext cx="20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tid-grenoble.xtek.f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bil.univ-lyon1.fr/R/enseignement.html" TargetMode="External"/><Relationship Id="rId2" Type="http://schemas.openxmlformats.org/officeDocument/2006/relationships/hyperlink" Target="file:///poids_bebes.xls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: poids des béb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bil.univ-lyon1.fr/R/enseignem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n 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ids bebes.x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ds à la naissance de 1236 béb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stion : le tabagisme de la mère a-t-il une influence sur le poids du bébé à la naissan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262D-8A56-48AB-86A8-8E16A936E0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: poids des béb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estion 1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 tabagisme de la mère a-t-il une influence sur le poids du bébé à la naissan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estion 2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 une semaine, un médecin de cette maternité a examiné 100 bébés. Aucun ne pesait moins de 2,4k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st-ce étonna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1532-3125-4534-B361-03C9183634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e tentative de réponse à la question 1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courbes des carnets de naissance nous indiquent qu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bébés naissent avec un poid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férieur à 2,4kg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données observées dans le fichier sont-elles conformes avec cette va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’ensemble de la population étudié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a population des mères non-fumeu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a population des mères fumeu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78A5-18E9-4AAE-9188-89896D3CF0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 chacune des populations, on définit la variable aléatoire « nombre de bébés de poids inférieur à 2,4 kg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 suit la loi B(1226,0.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it le loi B(742,0.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it la loi B(484,0.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r l’échantillon, on observ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5 bébés de poids inférieur à 2,4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nt 14 de mères non-fum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 21 de mères fum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71D3-5E2A-4946-9522-4E09EA236A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Pour répondre à la question 2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modélisation possible : soit X le nombre de bébés de moins de 2,4kg examinés par le médecin.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X~B(100,0.03)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On calcule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P(X=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modélisation possible : soit X le nombre de bébés que le médecin a examiné quand il examine le premier qui pèse moins de 2,4kg.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X~G(0.03)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On calcule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P(X&gt;1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0D7D-6DFD-4A2F-8F36-0E2C924C99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9:52:41Z</dcterms:created>
  <dc:creator>Letué Frédérique</dc:creator>
  <dc:description/>
  <dc:language>en-US</dc:language>
  <cp:lastModifiedBy>Jean-Michel Lemoine</cp:lastModifiedBy>
  <dcterms:modified xsi:type="dcterms:W3CDTF">2011-04-23T16:19:06Z</dcterms:modified>
  <cp:revision>69</cp:revision>
  <dc:subject/>
  <dc:title>Formation professionnelle des professeurs stagiaires</dc:title>
</cp:coreProperties>
</file>