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wmf" ContentType="image/x-wmf"/>
  <Override PartName="/ppt/media/image26.png" ContentType="image/png"/>
  <Override PartName="/ppt/media/image25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jpeg" ContentType="image/jpeg"/>
  <Override PartName="/ppt/media/image15.png" ContentType="image/png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15B9-A211-42F9-A305-CB69830FF3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iapos 1 à 6: 10 min  maxi: Si discussion il y a sur l’utilité du calcul formel, cette discussion doit être menée à l’ouverture de l’atelier par l’IP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total maxi : 25 m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ématique de généralisation à une fonction trinôme  quelconque (0 mi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total maxi: 2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ravail individuel sur ordinateur à l’aide des tutoriels sur Xcas et wxMaxima  et mise en place individuelle d’une tentative de réponse  à la problématique posée ( 30 m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emps total maxi : 5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ravail individuel sur ordinateur à l’aide des tutoriels sur Xcas et wxMaxima  et mise en place individuelle d’une tentative de réponse  à la problématique posée ( 30 m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istribution tableau de correspondance logiciels de calcul form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emps total maxi : 5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éponse sous Xcas ( lien hypertexte); diapos 14 et 15: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emps total maxi: 1 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éponse sous wxmaxima ( lien hypertexte); diapos 14 et 15: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emps total maxi: 1 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ématique de généralisation à une fonction trinôme  quelconque (0 mi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total maxi: 2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éponse sous Xcas ( lien hypertexte); diapos 14 et 15: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emps total maxi: 1 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éponse sous wxmaxima ( lien hypertexte); diapos 14 et 15: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emps total maxi: 1 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ésentation d’un prolongement possible: diapos 16 à 18: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total maxi : 1h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éfilement des parties du programme où apparaît le calcul formel: à noter que cela concerne la première S ainsi que les premières ES-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en hypertex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ésentation d’un prolongement possible: diapos 16 à 18: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total: 1h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en hypertex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ésentation d’un prolongement possible: diapos 16 à 18: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total: 1h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mple 2: diapos 19 à 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10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total maxi : 1 h 1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en hypertex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en hypertex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en hypertex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total maxi : 1h 1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 3: on passe très rapidement sur les diapos 23 à 27: 5 min max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total maxi : 1h 20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en hypertex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en hypertex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éfilement des parties du programme où apparaît le calcul formel: à noter que cela concerne la première S ainsi que les premières ES-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en hypertex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mple 4: diapos 28 à 30: temps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total maxi : 1 h 2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mple 4: diapos 28 à 30: temps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total maxi : 1 h 2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mple 4: diapos 28 à  30: temps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total maxi : 1 h 2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emple 5: diapos 31 à 33: temps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emps total maxi : 1 h 30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mple 4: diapos 28 à 30: temps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total maxi : 1 h 2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mple 4: diapos 28 à 30: temps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total maxi : 1 h 2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e à disposition de ressources et questions :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total maxi : 1 h 30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ise à disposition de ressources et questions : 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emps total maxi : 1 h 30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éfilement des parties du programme où apparaît le calcul formel: à noter que cela concerne la première S ainsi que les premières ES-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éfilement des parties du programme où apparaît le calcul formel: à noter que cela concerne la première S ainsi que les premières ES-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éfilement des parties du programme où apparaît le calcul formel: à noter que cela concerne la première S ainsi que les premières ES-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s total maxi : 10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 1: les stagiaires travaillent sur les logiciels de géométrie dynamique ( géogébra ou géopla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emps: 10-15 min max avec affichage des résultats ( diapos 8 à 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emps total maxi : 25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a figure géogébra s’affiche avec un lien hypertex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a figure géoplan s’affiche avec un lien hypertex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DCB9-4197-4CB6-AC5B-8F024B13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8936-BAC8-46E5-B5FF-C81B0D11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904B-EBAF-4B07-8854-887CBA0D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C2FD-3106-4989-84CF-08E8E7B8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2085-872E-4F72-9E47-FA8718A1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51A1-0297-422F-B10E-65BA96C1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9172-FDD7-4DC0-B0C5-6AAE8F3E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04F4-93F8-4BA6-9469-721C7384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0C34-66E4-44EB-A234-552C9DD1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F740-0548-4939-A085-B27DE89F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11C6-6D79-401E-9E5E-22AE8A09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9456-CF66-4D3F-8D78-1ECA5D55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F7E4-2428-4211-9AF2-2179A2A9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4F68-1CC0-440B-976E-B6709C59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D3D7-D33A-4777-88A0-5A21B32C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8497-CEC3-48DC-AD72-3B5BABF0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B092-7316-4599-8D6C-D4C1FF27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66A6-CD84-4D53-9701-8C4A5DE2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50E8-604C-4C7B-AF02-BC222B88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893-81E4-4257-900B-F8AF6E8C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01DA-4DBD-489B-AA5F-AE00F8AF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F402-62D9-47CA-990E-BCE39F3C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EDB0-5E7C-4ECC-A003-05EAE51B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E236-3848-41A8-AE89-97B3686C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C53A-60FD-4D03-A2B6-FFFF84D8F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80DD-9AB2-45FC-B4A7-F2B175B1401B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2_tangentes_a_une_parabole/tang_g1.xws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8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JDI 2010/2011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TELIER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ALCUL FORM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14200"/>
            <a:ext cx="856296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(x)=x²-2x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’(x)=2x-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1: y-(m²-2m+1)=(2m-2)(x-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=(2m-2)x -m²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2  y=(-2m-2)x -m²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CONCLUSION…….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Rectangle 10"/>
          <p:cNvGraphicFramePr/>
          <p:nvPr/>
        </p:nvGraphicFramePr>
        <p:xfrm>
          <a:off x="6967440" y="2944800"/>
          <a:ext cx="165240" cy="12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Rectangle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67440" y="2944800"/>
                    <a:ext cx="165240" cy="1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0"/>
          <a:ext cx="152280" cy="19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15228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0"/>
          <a:ext cx="152280" cy="190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15228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Rectangle 10"/>
          <p:cNvGraphicFramePr/>
          <p:nvPr/>
        </p:nvGraphicFramePr>
        <p:xfrm>
          <a:off x="533520" y="3505320"/>
          <a:ext cx="8305560" cy="906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5" name="Rectangle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3520" y="3505320"/>
                    <a:ext cx="830556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33520" y="4724280"/>
          <a:ext cx="1904760" cy="978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3520" y="4724280"/>
                    <a:ext cx="190476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13840"/>
            <a:ext cx="83822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-il possible de démontrer ce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ésultat à l’aide d’un logiciel de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lcul formel 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ahoma"/>
              </a:rPr>
              <a:t>Les logiciel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XCAS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ise en 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ahoma"/>
              </a:rPr>
              <a:t>Les logiciel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3333cc"/>
                </a:solidFill>
                <a:latin typeface="Tahoma"/>
              </a:rPr>
              <a:t>XCAS</a:t>
            </a: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3333cc"/>
                </a:solidFill>
                <a:latin typeface="Tahoma"/>
              </a:rPr>
              <a:t>-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prise en 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3333cc"/>
                </a:solidFill>
                <a:latin typeface="Tahoma"/>
              </a:rPr>
              <a:t>wxMAXIMA</a:t>
            </a:r>
            <a:r>
              <a:rPr b="0" lang="fr-FR" sz="3200" spc="-1" strike="noStrike">
                <a:solidFill>
                  <a:srgbClr val="3333cc"/>
                </a:solidFill>
                <a:latin typeface="Tahoma"/>
              </a:rPr>
              <a:t> –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prise en 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Tahoma"/>
              </a:rPr>
              <a:t>Tableau de correspondance logici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1 sous XC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74320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77533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45956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Tahoma"/>
              </a:rPr>
              <a:t>EXEMPLE 1 sous wxMaxim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74320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7631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13840"/>
            <a:ext cx="83822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1: généralis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Est-il possible de démontrer le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même résultat pour la courbe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représentative d’une fonction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trinôme quelconque définie  par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f(x)=ax²+bx+c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1 sous XC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74320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0440" y="1676520"/>
            <a:ext cx="89535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45956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Tahoma"/>
              </a:rPr>
              <a:t>EXEMPLE 1 sous wxMaxim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74320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8600" y="1573200"/>
            <a:ext cx="87580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213840"/>
            <a:ext cx="81536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1: Prolon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30592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Soit f une fonction trinôme définie sur R par f(x)=ax²+bx+c et P sa courbe représentative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Soit M et N deux points  distincts de la parabole  P et d’abscisses respectives m et n et d et d’ les tangentes en M et N à 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Quelle observation faites-vous quand au point d’intersection de ces deux droites 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ATELIER CALCUL FORMEL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NOUVEAUX PROGRAMMES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PREMIERE  S et PREMIERE L-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726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Utilisation d’outils logiciel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L’utilisation de logiciels, d’outils de visualisation et de simulation, de calcu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mel ou scientifique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t de programmation change profondément la nature de l’enseignement en favorisant une démarche d’investigation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 particulier, lors de la résolution de problèmes,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l’utilisation d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ogiciels de calcul form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eut limiter le temps consacré à des calculs très techniques afin de se concentrer sur la mise en place de raisonnements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’utilisation de ces outils intervient selon trois modalités 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par le professeur, en classe, avec un dispositif de visualisation      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collectiv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par les élèves, sous forme de travaux pratiques de mathématiqu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dans le cadre du travail personnel des élèves hors de la classe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13840"/>
            <a:ext cx="81536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Tahoma"/>
              </a:rPr>
              <a:t>EXEMPLE 1: Prolongement sous Xca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13840"/>
            <a:ext cx="81536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Tahoma"/>
              </a:rPr>
              <a:t>EXEMPLE 1: Prolongement sous wxMaxim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304812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381880" cy="5257800"/>
          </a:xfrm>
          <a:prstGeom prst="rect">
            <a:avLst/>
          </a:prstGeom>
          <a:blipFill rotWithShape="0">
            <a:blip r:embed="rId1">
              <a:alphaModFix amt="2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considère la parabole (P) d’équation            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un point de P d’abscisse a non nulle et F le poi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 coordonnées (0 ; 1). La droite (AF) recoupe (P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 B. Les tangentes à (P) en A et B se recoupent e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éterminer le lieu des points de 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010280" y="1371600"/>
          <a:ext cx="1143000" cy="84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1371600"/>
                    <a:ext cx="114300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214200"/>
            <a:ext cx="879156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Tahoma"/>
              </a:rPr>
              <a:t>EX 2: Etude Sous GEOGEBR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9780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90720" y="1152360"/>
            <a:ext cx="800100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14200"/>
            <a:ext cx="856296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Tahoma"/>
              </a:rPr>
              <a:t>EXEMPLE 2 sous Xc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9780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76312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14200"/>
            <a:ext cx="856296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Tahoma"/>
              </a:rPr>
              <a:t>EXEMPLE 2 sous wxMaxi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9780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13840"/>
            <a:ext cx="81536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3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30592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considère un demi-cercle de diamètre [AB], de centre I et de rayon 1. M est un point mobile sur le segment [IB]. MNPQ est un rectangle inscrit dans le demi-cercl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s'intéresse à l'aire de ce rectang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0"/>
          <a:ext cx="638280" cy="2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382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0"/>
          <a:ext cx="63828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6382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13840"/>
            <a:ext cx="81536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Tahoma"/>
              </a:rPr>
              <a:t>EXEMPLE 3: Géogéb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7" name="Rectangle 10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13840"/>
            <a:ext cx="81536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3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22096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22096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778040" y="2438280"/>
          <a:ext cx="55879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2438280"/>
                    <a:ext cx="55879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13840"/>
            <a:ext cx="8153640" cy="16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3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N SECONDE SOUS XC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22096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22096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891540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9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ATELIER CALCUL FORMEL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OUVEAUX PROGRAMMES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PREMIERE  S et PREMIERE L-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2209320"/>
            <a:ext cx="8802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versité de l’activité de l’élèv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 activités proposées en classe et hors du temps scolaire prennent appu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 la résolution de problèmes purement mathématiques ou issus d’autr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ciplines. De nature diverse, elles doivent entraîner les élèves à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rcher, expérimenter, modéliser, en particulier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à l’aide d’outils logiciel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isir et appliquer des techniques de calcul 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tre en oeuvre des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lgorithm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isonner, démontrer, trouver des résultats partiels et les mettre en perspec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quer oralement une démarche, communiquer un résultat par oral ou par écri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13840"/>
            <a:ext cx="8153640" cy="16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3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N PREMIERE SOUS XC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22096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2096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28600" y="1701720"/>
            <a:ext cx="833436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214200"/>
            <a:ext cx="856296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4: Loi binomia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9780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« La formule donnant l’espérance de la loi binomiale est conjecturée puis admise, celle de la variance est admise 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IT X une loi binomiale de paramètres n et p alors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(X)=n*p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V(X)=-n*p*(p-1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14200"/>
            <a:ext cx="856296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4: Loi binomia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0272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IT X une loi binomiale de paramètres n et p alors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(X)=n*p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(X)=-n*p*(p-1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 n = 10; E(X)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*p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et V(X)=-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p*(p-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 n = 100; E(X)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*p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et V(X)=-10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p*(p-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214200"/>
            <a:ext cx="8562960" cy="10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EXEMPLE 4: Loi binomiale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ous XCAS: n=10 ou n=100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686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14200"/>
            <a:ext cx="85629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5: Loi géométrique tronqué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978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« Espérance de la loi géométrique tronquée : le calcul général est difficile, même avec l’aide d’un logiciel de calcul formel… ce n’est pas exigible et on se limitera à de petites valeurs de n 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n lance un dé, jusqu’à obtention du premier 6, dans la limite de 10 lanc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Quelle est la probabilité d’avoir obtenu le premier 6 au sixième lancer 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Quel est le nombre moyen de lancers nécessaires 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14200"/>
            <a:ext cx="85629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5: Loi géométrique tronqué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978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ité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=1/6   1-p=5/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9154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14200"/>
            <a:ext cx="85629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5: Loi géométrique tronqué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978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8600" y="2117880"/>
            <a:ext cx="8458200" cy="2130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57200" y="44956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Tahoma"/>
              </a:rPr>
              <a:t>Concl: Le nombre moyen de lancers nécessaires pour obtenir un 6 est de environ 3,4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71524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3399"/>
                </a:solidFill>
                <a:latin typeface="Tahoma"/>
              </a:rPr>
              <a:t>RESSOURCES Xcas</a:t>
            </a:r>
            <a:br>
              <a:rPr sz="4800"/>
            </a:br>
            <a:r>
              <a:rPr b="1" lang="fr-FR" sz="4800" spc="-1" strike="noStrike">
                <a:solidFill>
                  <a:srgbClr val="333399"/>
                </a:solidFill>
                <a:latin typeface="Tahoma"/>
              </a:rPr>
              <a:t>ET wxMAXIM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3200040"/>
            <a:ext cx="8726400" cy="29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3048120"/>
            <a:ext cx="64767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Planète Math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9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Clés USB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7152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Question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stions à destination des IA-IP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9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ATELIER CALCUL FORMEL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OUVEAUX PROGRAMMES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PREMIERE  S et PREMIERE L-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2742840"/>
            <a:ext cx="8802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 modes d’évaluation prennent également des formes variées, en phase avec les objectifs poursuivis.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n particulier, l’aptitude à mobiliser l’outil informatique dans le cadre de la résolution de problèmes est à évaluer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ATELIER CALCUL FORMEL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OUVEAUX PROGRAMMES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MIERE  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726400" cy="4191120"/>
          </a:xfrm>
          <a:prstGeom prst="rect">
            <a:avLst/>
          </a:prstGeom>
          <a:noFill/>
          <a:ln w="9360">
            <a:solidFill>
              <a:srgbClr val="ffcf01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introduit un nouvel outil : la dérivation. L’acquisi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 concept de dérivée est un point fondamental d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e de première. Les fonctions étudiées sont tout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égulières et on se contente d’une approche intuitive de l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on de limite finie en un point. Le calcul de dérivé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ns des cas simples est un attendu du programme ; dans 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 de situations plus complexes,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n sollicite l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ogiciels de calcul forme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14200"/>
            <a:ext cx="8562960" cy="13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OUVEAUX PROGRAMMES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EMIERE S ET PREMIERE L-ES</a:t>
            </a:r>
            <a:br>
              <a:rPr sz="4000"/>
            </a:b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TELIER CALCUL FORM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1905120"/>
          <a:ext cx="8458200" cy="4951440"/>
        </p:xfrm>
        <a:graphic>
          <a:graphicData uri="http://schemas.openxmlformats.org/drawingml/2006/table">
            <a:tbl>
              <a:tblPr/>
              <a:tblGrid>
                <a:gridCol w="3105000"/>
                <a:gridCol w="2608200"/>
                <a:gridCol w="2745000"/>
              </a:tblGrid>
              <a:tr h="49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riv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mbre dérivé d’une fonction en un point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ngente à la courbe représentative d’u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nction dérivable en un point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nction dérivée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rivée des fonctions usuelles 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rivée d’une somme, d’un produit et d’u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otient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en entre signe de la dérivée et sens d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tion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tremum d’une fonction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cer une tangente connaissant le nombre dérivé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la dérivée de fonc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loiter le sens de variation pour l’obtention d’inégalité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nombre dérivé est défini comme limite du taux d’accroissement quand h tend vers 0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ne donne pas de définition formelle de la limit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’utilisation des outils logiciel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facilite l’introduction du nombre dérivé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évite tout excès de technicité dans 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s de dérivation.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 nécessaire, da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cadre de la résolution de problèmes, le calcul de la dérivée d’une fonction est facilité par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’utilisation d’un logiciel de calcul formel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 est intéressant de présenter le princip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démonstration de la dérivation d’u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i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traite quelques problèm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’optimis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90920" y="3962520"/>
          <a:ext cx="685800" cy="28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962520"/>
                    <a:ext cx="68580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5800" y="4191120"/>
          <a:ext cx="53352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191120"/>
                    <a:ext cx="53352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447920" y="4267080"/>
          <a:ext cx="609480" cy="25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4267080"/>
                    <a:ext cx="60948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13840"/>
            <a:ext cx="815328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XEMPL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487160"/>
            <a:ext cx="792504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sir une fonction trinôme du second degré  et tracer, à l’aide d’un logiciel de géométrie dynamique, sa courbe P représentative dans un repère orthogonal du plan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sir deux points M et N  de la parabole  P et d’abscisses opposées non null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cer les tangentes  d et d’ à la parabole en ces points M et 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le observation faites vous quand au point d’intersection de ces deux droites 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3124080" cy="25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EXEMPLE 1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RESULTAT SOUS GEOGEBR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343400" y="228600"/>
            <a:ext cx="45594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3657600" cy="24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EXEMPLE 1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RESULTAT SOUS GEOPLA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581280" y="762120"/>
            <a:ext cx="53532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orges</dc:creator>
  <dc:description/>
  <dc:language>en-US</dc:language>
  <cp:lastModifiedBy>Lycée du Mont-Blanc</cp:lastModifiedBy>
  <dcterms:modified xsi:type="dcterms:W3CDTF">2011-04-19T16:13:34Z</dcterms:modified>
  <cp:revision>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