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26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BD6F-B651-4D19-AB55-29E204B809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iapos 1 à 6: 10 min  maxi: Si discussion il y a sur l’utilité du calcul formel, cette discussion doit être menée à l’ouverture de l’atelier par l’I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25 m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ématique de généralisation à une fonction trinôme  quelconque (0 mi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: 2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ravail individuel sur ordinateur à l’aide des tutoriels sur Xcas et wxMaxima  et mise en place individuelle d’une tentative de réponse  à la problématique posée ( 30 m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 : 5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ravail individuel sur ordinateur à l’aide des tutoriels sur Xcas et wxMaxima  et mise en place individuelle d’une tentative de réponse  à la problématique posée ( 30 m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istribution tableau de correspondance logiciels de calcul form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 : 5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éponse sous Xcas ( lien hypertexte); diapos 14 et 15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: 1 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éponse sous wxmaxima ( lien hypertexte); diapos 14 et 15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: 1 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ématique de généralisation à une fonction trinôme  quelconque (0 mi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: 2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éponse sous Xcas ( lien hypertexte); diapos 14 et 15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: 1 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éponse sous wxmaxima ( lien hypertexte); diapos 14 et 15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: 1 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ésentation d’un prolongement possible: diapos 16 à 18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h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éfilement des parties du programme où apparaît le calcul formel: à noter que cela concerne la première S ainsi que les premières ES-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ésentation d’un prolongement possible: diapos 16 à 18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: 1h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ésentation d’un prolongement possible: diapos 16 à 18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: 1h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mple 2: diapos 19 à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10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 h 1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h 1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3: on passe très rapidement sur les diapos 23 à 27: 5 min max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h 20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n hypertex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éfilement des parties du programme où apparaît le calcul formel: à noter que cela concerne la première S ainsi que les premières ES-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mple 4: diapos 28 à 30: temps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 h 2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mple 4: diapos 28 à 30: temps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 h 2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mple 4: diapos 28 à  30: temps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 h 2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le 5: diapos 31 à 33: temps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 : 1 h 30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mple 4: diapos 28 à 30: temps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 h 2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mple 4: diapos 28 à 30: temps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 h 2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e à disposition de ressources et questions 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 h 30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ise à disposition de ressources et questions 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 : 1 h 30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éfilement des parties du programme où apparaît le calcul formel: à noter que cela concerne la première S ainsi que les premières ES-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éfilement des parties du programme où apparaît le calcul formel: à noter que cela concerne la première S ainsi que les premières ES-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éfilement des parties du programme où apparaît le calcul formel: à noter que cela concerne la première S ainsi que les premières ES-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0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 1: les stagiaires travaillent sur les logiciels de géométrie dynamique ( géogébra ou géopla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: 10-15 min max avec affichage des résultats ( diapos 8 à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 : 2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figure géogébra s’affiche avec un 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figure géoplan s’affiche avec un 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A37-B0A2-41B0-AC5B-7C8D6AA6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751-8E3E-4798-BFE2-A921F911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353-80B9-4817-A282-C21353BE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8BD-2B0C-4E86-9194-35D8BF47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A20C-A88F-4C43-9987-A9EE974C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67D6-ABA6-4A6E-BFC4-61743A12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05C6-4561-457E-8496-336AAFCB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1EFC-DB09-472C-91B9-59D0684D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8985-F0CA-43EE-A696-4F9CD3BA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C1C7-B22D-46AC-A765-7A18D3E6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F5D7-DFF9-46DD-AEA7-59324C13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ECF-22F9-441E-BF0F-41515D24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7D3F-164D-41E7-A6EE-443C0B79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997A-3C16-4570-8118-174D98E7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AC75-7F46-44A6-9047-09A67ABE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4CF3-6CEE-4A3E-947C-3615929B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95D9-F411-4F46-BA16-B8C62D3D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712-5325-4971-9558-48039937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08D-9F50-4036-93D0-37DFF6FD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BE9-2F63-46FA-96A0-85CE97B7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436-3834-447F-B154-7ECBE3FF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937-92A1-49C7-B26E-EC093F1D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022-226D-442D-A069-E884E35A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436-916F-44E4-93AE-BD23077C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E36B-B236-40C9-98B9-E47518F24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512F-7A61-4898-9EB6-6C0E3BE0123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2_tangentes_a_une_parabole/tang_g1.xws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8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JDI 2010/2011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TELIER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ALCUL FORM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x)=x²-2x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’(x)=2x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1: y-(m²-2m+1)=(2m-2)(x-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(2m-2)x -m²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2  y=(-2m-2)x -m²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ONCLUSION……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Rectangle 10"/>
          <p:cNvGraphicFramePr/>
          <p:nvPr/>
        </p:nvGraphicFramePr>
        <p:xfrm>
          <a:off x="6967440" y="2944800"/>
          <a:ext cx="165240" cy="12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Rectangle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67440" y="2944800"/>
                    <a:ext cx="16524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152280" cy="19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1522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152280" cy="190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1522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Rectangle 10"/>
          <p:cNvGraphicFramePr/>
          <p:nvPr/>
        </p:nvGraphicFramePr>
        <p:xfrm>
          <a:off x="533520" y="3505320"/>
          <a:ext cx="8305560" cy="906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5" name="Rectangle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3505320"/>
                    <a:ext cx="830556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33520" y="4724280"/>
          <a:ext cx="1904760" cy="978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3520" y="4724280"/>
                    <a:ext cx="190476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13840"/>
            <a:ext cx="83822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-il possible de démontrer ce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ésultat à l’aide d’un logiciel de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lcul formel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ahoma"/>
              </a:rPr>
              <a:t>Les logiciel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XCA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ise en 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Les logiciel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3333cc"/>
                </a:solidFill>
                <a:latin typeface="Tahoma"/>
              </a:rPr>
              <a:t>XCAS</a:t>
            </a: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prise en 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3333cc"/>
                </a:solidFill>
                <a:latin typeface="Tahoma"/>
              </a:rPr>
              <a:t>wxMAXIMA</a:t>
            </a:r>
            <a:r>
              <a:rPr b="0" lang="fr-FR" sz="3200" spc="-1" strike="noStrike">
                <a:solidFill>
                  <a:srgbClr val="3333cc"/>
                </a:solidFill>
                <a:latin typeface="Tahoma"/>
              </a:rPr>
              <a:t> –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prise en 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Tableau de correspondance logici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1 sous X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7432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77533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4595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Tahoma"/>
              </a:rPr>
              <a:t>EXEMPLE 1 sous wxMaxi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7432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7631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13840"/>
            <a:ext cx="83822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1: généralis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Est-il possible de démontrer le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même résultat pour la courbe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représentative d’une fonction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trinôme quelconque définie  par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f(x)=ax²+bx+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1 sous X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7432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440" y="1676520"/>
            <a:ext cx="89535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4595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Tahoma"/>
              </a:rPr>
              <a:t>EXEMPLE 1 sous wxMaxi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7432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8600" y="1573200"/>
            <a:ext cx="87580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8153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1: Prolon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oit f une fonction trinôme définie sur R par f(x)=ax²+bx+c et P sa courbe représentative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oit M et N deux points  distincts de la parabole  P et d’abscisses respectives m et n et d et d’ les tangentes en M et N à 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lle observation faites-vous quand au point d’intersection de ces deux droites 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TELIER CALCUL FORMEL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NOUVEAUX PROGRAMME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PREMIERE  S et PREMIERE L-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726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tilisation d’outils logiciel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L’utilisation de logiciels, d’outils de visualisation et de simulation, de calcu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mel ou scientifique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t de programmation change profondément la nature de l’enseignement en favorisant une démarche d’investigation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 particulier, lors de la résolution de problèmes,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l’utilisation d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giciels de calcul form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eut limiter le temps consacré à des calculs très techniques afin de se concentrer sur la mise en place de raisonnement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’utilisation de ces outils intervient selon trois modalités 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par le professeur, en classe, avec un dispositif de visualisation      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collectiv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par les élèves, sous forme de travaux pratiques de mathématiqu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dans le cadre du travail personnel des élèves hors de la classe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8153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Tahoma"/>
              </a:rPr>
              <a:t>EXEMPLE 1: Prolongement sous Xca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8153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Tahoma"/>
              </a:rPr>
              <a:t>EXEMPLE 1: Prolongement sous wxMaxi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304812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381880" cy="5257800"/>
          </a:xfrm>
          <a:prstGeom prst="rect">
            <a:avLst/>
          </a:prstGeom>
          <a:blipFill rotWithShape="0">
            <a:blip r:embed="rId1">
              <a:alphaModFix amt="2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considère la parabole (P) d’équation            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un point de P d’abscisse a non nulle et F le poi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coordonnées (0 ; 1). La droite (AF) recoupe (P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B. Les tangentes à (P) en A et B se recoupent 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éterminer le lieu des points de 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010280" y="1371600"/>
          <a:ext cx="1143000" cy="8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1371600"/>
                    <a:ext cx="114300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214200"/>
            <a:ext cx="879156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Tahoma"/>
              </a:rPr>
              <a:t>EX 2: Etude Sous GEOGEBR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978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90720" y="1152360"/>
            <a:ext cx="800100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ahoma"/>
              </a:rPr>
              <a:t>EXEMPLE 2 sous X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978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76312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ahoma"/>
              </a:rPr>
              <a:t>EXEMPLE 2 sous wxMaxi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978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8153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3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considère un demi-cercle de diamètre [AB], de centre I et de rayon 1. M est un point mobile sur le segment [IB]. MNPQ est un rectangle inscrit dans le demi-cercl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s'intéresse à l'aire de ce rectang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0"/>
          <a:ext cx="6382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38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0"/>
          <a:ext cx="63828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38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8153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ahoma"/>
              </a:rPr>
              <a:t>EXEMPLE 3: Géogéb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Rectangle 10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8153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3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22096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2096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78040" y="2438280"/>
          <a:ext cx="55879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2438280"/>
                    <a:ext cx="55879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8153640" cy="16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3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N SECONDE SOUS X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2096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22096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89154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9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TELIER CALCUL FORMEL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OUVEAUX PROGRAMM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PREMIERE  S et PREMIERE L-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880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versité de l’activité de l’élèv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 activités proposées en classe et hors du temps scolaire prennent appu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 la résolution de problèmes purement mathématiques ou issus d’autr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iplines. De nature diverse, elles doivent entraîner les élèves à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rcher, expérimenter, modéliser, en particulier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à l’aide d’outils logicie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isir et appliquer des techniques de calcul 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tre en oeuvre des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lgorithm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onner, démontrer, trouver des résultats partiels et les mettre en persp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quer oralement une démarche, communiquer un résultat par oral ou par écri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8153640" cy="16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3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N PREMIERE SOUS X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2096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2096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8600" y="1701720"/>
            <a:ext cx="833436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4: Loi binomi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978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« La formule donnant l’espérance de la loi binomiale est conjecturée puis admise, celle de la variance est admise 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IT X une loi binomiale de paramètres n et p alors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(X)=n*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(X)=-n*p*(p-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4: Loi binomi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0272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IT X une loi binomiale de paramètres n et p alors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(X)=n*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(X)=-n*p*(p-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 n = 10; E(X)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*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et V(X)=-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p*(p-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 n = 100; E(X)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*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et V(X)=-1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p*(p-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10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XEMPLE 4: Loi binomiale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ous XCAS: n=10 ou n=10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86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5: Loi géométrique tronqué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978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« Espérance de la loi géométrique tronquée : le calcul général est difficile, même avec l’aide d’un logiciel de calcul formel… ce n’est pas exigible et on se limitera à de petites valeurs de n 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n lance un dé, jusqu’à obtention du premier 6, dans la limite de 10 lanc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Quelle est la probabilité d’avoir obtenu le premier 6 au sixième lancer 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Quel est le nombre moyen de lancers nécessaires 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5: Loi géométrique tronqué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978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ité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=1/6   1-p=5/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9154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5: Loi géométrique tronqué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978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2117880"/>
            <a:ext cx="8458200" cy="2130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57200" y="44956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ahoma"/>
              </a:rPr>
              <a:t>Concl: Le nombre moyen de lancers nécessaires pour obtenir un 6 est de environ 3,4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71524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3399"/>
                </a:solidFill>
                <a:latin typeface="Tahoma"/>
              </a:rPr>
              <a:t>RESSOURCES Xcas</a:t>
            </a:r>
            <a:br>
              <a:rPr sz="4800"/>
            </a:br>
            <a:r>
              <a:rPr b="1" lang="fr-FR" sz="4800" spc="-1" strike="noStrike">
                <a:solidFill>
                  <a:srgbClr val="333399"/>
                </a:solidFill>
                <a:latin typeface="Tahoma"/>
              </a:rPr>
              <a:t>ET wxMAXIM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3200040"/>
            <a:ext cx="8726400" cy="29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3048120"/>
            <a:ext cx="64767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Planète Math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9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Clés USB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7152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Questio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 à destination des IA-I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9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TELIER CALCUL FORMEL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OUVEAUX PROGRAMM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PREMIERE  S et PREMIERE L-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2742840"/>
            <a:ext cx="8802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modes d’évaluation prennent également des formes variées, en phase avec les objectifs poursuivis.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n particulier, l’aptitude à mobiliser l’outil informatique dans le cadre de la résolution de problèmes est à évaluer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TELIER CALCUL FORMEL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OUVEAUX PROGRAMM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MIERE  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726400" cy="419112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introduit un nouvel outil : la dérivation. L’acquisi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 concept de dérivée est un point fondamental d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e de première. Les fonctions étudiées sont tou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égulières et on se contente d’une approche intuitive de 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on de limite finie en un point. Le calcul de dérivé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ns des cas simples est un attendu du programme ; dans 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 de situations plus complexes,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n sollicite l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ogiciels de calcul forme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13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OUVEAUX PROGRAMME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MIERE S ET PREMIERE L-ES</a:t>
            </a:r>
            <a:br>
              <a:rPr sz="40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TELIER CALCUL FORM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905120"/>
          <a:ext cx="8458200" cy="4951440"/>
        </p:xfrm>
        <a:graphic>
          <a:graphicData uri="http://schemas.openxmlformats.org/drawingml/2006/table">
            <a:tbl>
              <a:tblPr/>
              <a:tblGrid>
                <a:gridCol w="3105000"/>
                <a:gridCol w="2608200"/>
                <a:gridCol w="2745000"/>
              </a:tblGrid>
              <a:tr h="49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riv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re dérivé d’une fonction en un point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gente à la courbe représentative d’u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nction dérivable en un point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nction dérivée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rivée des fonctions usuelles 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rivée d’une somme, d’un produit et d’u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otient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en entre signe de la dérivée et sens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tio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remum d’une fonction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cer une tangente connaissant le nombre dérivé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la dérivée de fonc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oiter le sens de variation pour l’obtention d’inégalité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nombre dérivé est défini comme limite du taux d’accroissement quand h tend vers 0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ne donne pas de définition formelle de la limit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’utilisation des outils logiciel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facilite l’introduction du nombre dérivé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évite tout excès de technicité dans 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s de dérivation.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nécessaire, da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cadre de la résolution de problèmes, le calcul de la dérivée d’une fonction est facilité par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’utilisation d’un logiciel de calcul formel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est intéressant de présenter le princip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démonstration de la dérivation d’u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traite quelques problè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’optimis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90920" y="3962520"/>
          <a:ext cx="685800" cy="28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962520"/>
                    <a:ext cx="68580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4191120"/>
          <a:ext cx="53352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5335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47920" y="4267080"/>
          <a:ext cx="609480" cy="2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267080"/>
                    <a:ext cx="6094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13840"/>
            <a:ext cx="815328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487160"/>
            <a:ext cx="792504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sir une fonction trinôme du second degré  et tracer, à l’aide d’un logiciel de géométrie dynamique, sa courbe P représentative dans un repère orthogonal du plan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sir deux points M et N  de la parabole  P et d’abscisses opposées non null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cer les tangentes  d et d’ à la parabole en ces points M et 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e observation faites vous quand au point d’intersection de ces deux droites 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3124080" cy="25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EXEMPLE 1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RESULTAT SOUS GEOGEBR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4559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3657600" cy="24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EXEMPLE 1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RESULTAT SOUS GEOPLA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581280" y="762120"/>
            <a:ext cx="53532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es</dc:creator>
  <dc:description/>
  <dc:language>en-US</dc:language>
  <cp:lastModifiedBy>Lycée du Mont-Blanc</cp:lastModifiedBy>
  <dcterms:modified xsi:type="dcterms:W3CDTF">2011-04-19T16:13:34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